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E17-73A8-4441-926E-3F22C615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008-76D7-43A1-90D4-707DBE1A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EE1-16E7-4FE7-BA4B-63CE7248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B25-0C4D-41F6-AF07-60A68D6F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A57-7792-4C4F-91B9-8B7FA4C0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525-26DB-4C7E-B755-E716A4A1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7BC-EFB7-4864-8EAE-8D3A1F64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084-EC27-46C7-9D1D-2D349985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A23-87F3-4212-9023-16C8BB7E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23E-43DB-4B95-A8E9-CA51FCDC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189-AAFB-4B2C-BACE-258F8188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F9B-6438-4090-92A1-22746814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D6B0-6E37-4A49-880D-5FEA26DD6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650880"/>
            <a:ext cx="86421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توب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مائ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9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4797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راء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فتتاح السورة بها ولانها أظهرت البراءة من المشركين و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ز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6732720" y="435456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راء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27160" y="5300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توبة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فيها التوبة على ا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0" name="رابط كسهم مستقيم 21"/>
          <p:cNvCxnSpPr/>
          <p:nvPr/>
        </p:nvCxnSpPr>
        <p:spPr>
          <a:xfrm>
            <a:off x="6011640" y="40482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5148360" y="431964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>
            <a:off x="3924000" y="4076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3059280" y="4394160"/>
            <a:ext cx="158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اضح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24000" y="5805360"/>
            <a:ext cx="86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فاض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فضحت المنافقين وأظهرت مخاز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24000" y="6308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مخز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أخزت المنافقين بكشف أسرا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تأمين الكفار إذا رغبوا في سماع كلام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19"/>
          <p:cNvSpPr/>
          <p:nvPr/>
        </p:nvSpPr>
        <p:spPr>
          <a:xfrm flipH="1">
            <a:off x="8817120" y="1662120"/>
            <a:ext cx="2880" cy="42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راءة من عهود المشرك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غلظة على الكفار المعاند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الجهاد في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أهل ال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ن الغاية من الجهاد في سبيل إعلاء كلمة الله ونشر دي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المنافق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ديث عن غزوة تبوك وجيش العس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ة مسجد الضر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38"/>
          <p:cNvCxnSpPr/>
          <p:nvPr/>
        </p:nvCxnSpPr>
        <p:spPr>
          <a:xfrm flipH="1">
            <a:off x="8456040" y="5940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250920" y="5724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تنان الله على البشر ببعثه محمد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قيقة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ظهار الإسلام وإبطان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179280" y="215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بث النفس وفساد الباطن مع العجز عن إظهار ذلك المستو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179280" y="272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جأ من ابتلي بالنفا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تلون وإظهار الخير وإخفاء الش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106380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ظاهر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رابط مستقيم 7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رابط مستقيم 8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رابط كسهم مستقيم 9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ح بما يسوء المسلمين والحزن على ما يس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11"/>
          <p:cNvSpPr/>
          <p:nvPr/>
        </p:nvSpPr>
        <p:spPr>
          <a:xfrm>
            <a:off x="8820000" y="1662120"/>
            <a:ext cx="0" cy="34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رابط كسهم مستقيم 12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هزاؤهم بالدين وأ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رابط كسهم مستقيم 15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كيم القوانين الوض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رابط كسهم مستقيم 17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 يد العون لأعداء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19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حاربة العف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رابط كسهم مستقيم 21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عجابهم بالكفار والتشبه ب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رابط كسهم مستقيم 23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ل إلى الشهوات ونشر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5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رص على تثبيط أهل الإيم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6:19:51Z</dcterms:modified>
  <cp:revision>1783</cp:revision>
  <dc:subject/>
  <dc:title>عرض تقديمي في PowerPoint</dc:title>
</cp:coreProperties>
</file>